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1.png" ContentType="image/png"/>
  <Override PartName="/ppt/media/image17.gif" ContentType="image/gif"/>
  <Override PartName="/ppt/media/image2.jpeg" ContentType="image/jpeg"/>
  <Override PartName="/ppt/media/image19.png" ContentType="image/png"/>
  <Override PartName="/ppt/media/image16.gif" ContentType="image/gif"/>
  <Override PartName="/ppt/media/image15.gif" ContentType="image/gif"/>
  <Override PartName="/ppt/media/image18.png" ContentType="image/png"/>
  <Override PartName="/ppt/media/image14.gif" ContentType="image/gif"/>
  <Override PartName="/ppt/media/image1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3.gif" ContentType="image/gi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FB6-00A8-472C-A96D-71977C4F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9ED-D072-46DA-B3A4-DD3F8D04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528-156A-4FD0-816D-8C65B92E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BE3-C9E9-4C59-AE38-8574EF22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3CDB-B5FC-45B0-8872-442123F7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878-E4DC-4AA2-BA85-9A3E9D8D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FB1-81C8-4512-AC43-86D3DE82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1CB-626B-4BD8-BD73-498B5216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026-033A-41A6-BEB9-8B99C708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4539-4108-4748-8696-D7297B73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18EC-66EA-4515-B396-3937F43E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C13-895A-4E89-9E42-B0434C3A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98BA-74C2-4ED8-96E1-FC2252857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ssuel.org/salud/circu4.htm" TargetMode="External"/><Relationship Id="rId2" Type="http://schemas.openxmlformats.org/officeDocument/2006/relationships/image" Target="../media/image3.gif"/><Relationship Id="rId3" Type="http://schemas.openxmlformats.org/officeDocument/2006/relationships/hyperlink" Target="http://www.iessuel.org/salud/ssvv/cardiovgrande.ht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8108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4869000"/>
            <a:ext cx="93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w Cen MT Condensed Extra Bold"/>
              </a:rPr>
              <a:t>El agua y los seres viv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16360" y="1413000"/>
            <a:ext cx="4249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 Condensed Extra Bold"/>
              </a:rPr>
              <a:t>El agua permite que las plantas tomen del suelo, gracias a las raíces, sales minerales disuelt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3581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5229360"/>
            <a:ext cx="84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 Condensed Extra Bold"/>
              </a:rPr>
              <a:t>Permite que sustancias disueltas circulen por todo nuestro organ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La sangre describe dos circuitos complementarios llamados circulación mayor o general y menor o pulmonar... Pulsa para más informació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341360"/>
            <a:ext cx="1866960" cy="3240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Ampliar ima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1268280"/>
            <a:ext cx="1614600" cy="3889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133080" y="465300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arato Circul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55640" y="1341360"/>
            <a:ext cx="167652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364500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 corazón es una bomba que impulsa la sang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484000" y="2276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6160" y="18446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2276640"/>
            <a:ext cx="20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87280" y="981000"/>
          <a:ext cx="6809040" cy="53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981000"/>
                    <a:ext cx="680904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465300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 Condensed Extra Bold"/>
              </a:rPr>
              <a:t>El agua disuelve oxígeno, necesario para los animales acuáticos. Las branquias permiten tomar ese oxígeno del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24360" y="909720"/>
            <a:ext cx="4967280" cy="3057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00720" y="4005360"/>
            <a:ext cx="37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quias de un p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1486080"/>
            <a:ext cx="3527280" cy="160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2349360"/>
            <a:ext cx="14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357720"/>
            <a:ext cx="153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érculo (bajo él están las branqui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9560" y="838080"/>
            <a:ext cx="248652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a con oxígeno (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643280" y="3285720"/>
            <a:ext cx="21600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956720" y="32857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219640" y="4653000"/>
            <a:ext cx="1427400" cy="1019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292720" y="5589720"/>
            <a:ext cx="31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s tortugas marinas y las ballenas y delfines salen a respirar aire (no tienen branquias, sino pulmo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2987640" y="3862440"/>
            <a:ext cx="758880" cy="698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1584360" cy="12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 rot="19651800">
            <a:off x="4427640" y="4220640"/>
            <a:ext cx="2960640" cy="2251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8360" y="1168560"/>
            <a:ext cx="4365720" cy="568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148360" y="1197000"/>
            <a:ext cx="3670200" cy="29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El agua disuelve el CO</a:t>
            </a:r>
            <a:r>
              <a:rPr b="0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 necesario para 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las algas h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la fotosínt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6165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736920" cy="552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26920" y="206064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6200000">
            <a:off x="1619280" y="2925720"/>
            <a:ext cx="649440" cy="503280"/>
          </a:xfrm>
          <a:custGeom>
            <a:avLst/>
            <a:gdLst>
              <a:gd name="textAreaLeft" fmla="*/ 101520 w 649440"/>
              <a:gd name="textAreaRight" fmla="*/ 568440 w 64944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2770200" y="3717720"/>
            <a:ext cx="649080" cy="503280"/>
          </a:xfrm>
          <a:custGeom>
            <a:avLst/>
            <a:gdLst>
              <a:gd name="textAreaLeft" fmla="*/ 101160 w 649080"/>
              <a:gd name="textAreaRight" fmla="*/ 568080 w 64908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250920" y="1197000"/>
            <a:ext cx="4627440" cy="590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3203640" y="1773360"/>
            <a:ext cx="3816360" cy="50472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547640" y="3645000"/>
            <a:ext cx="792360" cy="747720"/>
            <a:chOff x="1547640" y="3645000"/>
            <a:chExt cx="792360" cy="747720"/>
          </a:xfrm>
        </p:grpSpPr>
        <p:sp>
          <p:nvSpPr>
            <p:cNvPr id="84" name=""/>
            <p:cNvSpPr/>
            <p:nvPr/>
          </p:nvSpPr>
          <p:spPr>
            <a:xfrm>
              <a:off x="1547640" y="3645000"/>
              <a:ext cx="792360" cy="747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60600" y="3645000"/>
              <a:ext cx="683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700360" y="2708280"/>
            <a:ext cx="863640" cy="792000"/>
            <a:chOff x="2700360" y="2708280"/>
            <a:chExt cx="863640" cy="792000"/>
          </a:xfrm>
        </p:grpSpPr>
        <p:sp>
          <p:nvSpPr>
            <p:cNvPr id="87" name=""/>
            <p:cNvSpPr/>
            <p:nvPr/>
          </p:nvSpPr>
          <p:spPr>
            <a:xfrm>
              <a:off x="2700360" y="2708280"/>
              <a:ext cx="863640" cy="79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00360" y="2781360"/>
              <a:ext cx="85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w Cen MT Condensed Extra Bold"/>
              </a:rPr>
              <a:t>El agua como disolvente en los seres v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w Cen MT Condensed Extra Bold"/>
              </a:rPr>
              <a:t>Importancia del agua en los seres v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97360"/>
            <a:ext cx="828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agua permite refrescarnos con la sudoración (el sudor es agua y sustancias disueltas). Evita que nos sobrecalent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1805040" cy="334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484360" y="1989000"/>
            <a:ext cx="201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sudor es principalmente agua con sales minerales disue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84720" y="1197000"/>
            <a:ext cx="4341600" cy="3316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236000" y="2924280"/>
            <a:ext cx="1295280" cy="1224000"/>
          </a:xfrm>
          <a:prstGeom prst="ellipse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10-02-14T18:54:24Z</dcterms:modified>
  <cp:revision>412</cp:revision>
  <dc:subject/>
  <dc:title>Diapositiva 1</dc:title>
</cp:coreProperties>
</file>